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D9E0278-C2D0-405F-818D-7C959B9D544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BCBA883-927F-4E87-B22A-502BD07CAE9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973887F-0D69-48F2-A7D5-2DD4CD18F5F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91F7B74-B384-445F-BC22-078F1974EF9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FBAAEA2-ACD1-4EC8-9E3E-51881F2189D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EB300A0-1822-4E64-A9F0-C9745529B0B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8175E01-4753-4A4D-BA29-12E8EA7F795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31E4EA-F640-4DFE-8354-A006E8A648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DD44E-0417-4B00-B11E-021FC5C38D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7B7209-B006-4FD9-9FAD-18FB089E0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D891A9-F40C-40BD-8F09-295AE9A080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CAE8F0-42C7-44DB-8A86-4FF495D76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FB041-B2B3-4430-BBC9-5D0C0C77E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B7E3E4-29B4-4DA4-AEA4-5BCF528C6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B5CF1F-4281-45FE-9134-201792EF4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6CFB04-A9D6-413E-8111-9900C90D6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19648E-EFDD-4880-95B5-6E05928F9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0B540-D245-4C24-96DD-8D2C764A0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162E0D-7121-49AC-B223-150A8BE4D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994C1-AC76-4471-AD5A-EC438B2CF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50893-6C23-4D47-8420-E967BB85D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7D093-D1B9-4635-A2C7-1263B4A9F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BF245C-C115-4CF5-920E-6A93093867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DE8521-0F3E-457B-86A6-96B7DEDEA5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F10B25-87C5-4E04-B341-AD110DADCD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0C092B-5325-49E4-A6C7-1A7426A5DD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F44A40-B85E-4ECC-9C0F-0E828C1889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C34EA2-1FCA-4E8F-A100-512ECC141B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DE6369-D009-4C6E-BF3E-E499811C3A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0C2427-5655-420E-8AD3-3BB4722EB5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2398D-5172-41DB-871C-F2635AB4D9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9D37-6822-4F7C-942D-D5FA7F5E832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2F0D-5F77-4841-8211-6A12EA79A1D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B391DE3F-5669-4BA9-8CDF-E1462656D2B9}" type="datetime3">
              <a:rPr b="0" lang="en-US" sz="2000" spc="-1" strike="noStrike">
                <a:solidFill>
                  <a:srgbClr val="ffffcc"/>
                </a:solidFill>
                <a:latin typeface="Tahoma"/>
              </a:rPr>
              <a:t>July 30,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